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6C51-D250-44C5-A605-43EE0517C681}"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9FF116F-184E-4120-AB72-42AA4DFA6B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CFD00A0-215E-4155-AB58-0A90AF40D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04C4B65-3AC6-4C20-AC84-B1E14AF94C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0153AE3-025D-4438-B8D8-D39FD0766D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D601FFF-BE7F-4CA3-9FBC-F431D6434B6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A4F7F3D-A1A5-4D32-82C8-EFD11BADC7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E8AE96A-5D72-48BD-831E-5AAAAA5FD9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BB70CA4-325F-47CE-8025-C2F93774C4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CFE8C61-70DF-4976-8F0B-4D71C0F2CB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87E91CD-E9E5-45D8-ABFE-F9DEAF51C0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537D692-A513-4FC8-AC15-D770DA4368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3674905-0142-4181-BC38-3183FE38C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0490439-0306-41EA-8B1C-4A5D50CB09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DA40517-E56E-47CA-8B8C-3863C3E40D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BFC4F64-F2E5-4640-A456-E036299873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AA1EA08D-1843-4528-8A83-7D4C2B83FD6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7A70D358-4FBA-46DC-AE00-76878D9E785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2BADAAD-A06E-4CAD-9E0F-E06BF49F9C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7E0271A-9659-48D5-A129-1BE91C85581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0C25079-244A-4ED4-98F7-4A0F7DD3D1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4E44B18-AF43-44E5-87E6-F90B9F5358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11C0AA0-C7FB-4D0B-9321-DFD1C33582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FBD0DCB-9820-4143-A4A3-9E7B8C1AA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014469C-44D2-40F9-ADAD-14A4F6505F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7FAD1A9-10D2-4169-A81D-17B7385E3D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40B8E1E-6397-4D0A-9BB4-8ECD500399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9AA0CA9-AA16-4944-B486-F57F1FB4F2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F1D410F-D002-49F7-8E96-E74C1362BA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C726D96-67BB-49DE-972A-57762ADCFE3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5F70374-E31F-457A-A6D6-C69E94E850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B264EC4-ACC0-4A70-9363-37D4A075F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2A74AA0-A869-4440-BC8A-C5573FAB6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920FC0B-F2E4-4E4F-831D-C4AA965B1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49049C-13BB-4153-9194-AA10C5E05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5AD644-18D1-4437-A3EA-D658CC764E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1A68520-D7C3-4510-9B85-FC2326F138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FC3A-CD0F-4173-BBD8-33D651DBBC2B}"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4AE4-B2AA-47C8-9FFA-6ACCBDB1DFCB}"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8855-47DB-47B7-95C7-A93BF42A6AF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C218-3938-471E-932A-5D819BC1F7E0}"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319E-BA46-4A09-995F-52E34C17003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CF26-AA86-4C6A-A9B7-83CDDE90E02E}" type="datetime">
              <a:rPr b="0" lang="de-DE" sz="900" spc="-1" strike="noStrike">
                <a:solidFill>
                  <a:srgbClr val="000000"/>
                </a:solidFill>
                <a:latin typeface="DB Office"/>
              </a:rPr>
              <a:t>30.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9BA7-D876-4FE4-9D4F-6E22321E859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E41B-5F91-4530-9F90-C5CEE70EB8A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EED2-3BBC-4971-95BC-BDD0B41B9EC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1259-03B5-4CC4-9B46-66C300192A7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68DA-A0F0-4B47-B296-ADF20EC84D8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8A22-6A2E-4C42-99C8-325FB275C44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4EFE-AEEC-4B3A-B011-8DA65DE5715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D752-F9C9-4D2C-BE3F-AAA4794D160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1030-DDB1-45BC-988C-B29DA886931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6233-CA1A-4651-BD36-E3D8E6D9854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C7B8-D843-4A02-8E73-DD800E7A070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42E4-FB5C-43FC-8740-2CDB966E0C1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FE12-F005-4E5E-8394-2A36ECF05B7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45BA-80FC-4310-A82A-E3A6EA27BDD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979A-5114-40B2-A84A-7D28B9CE71D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51A3-4745-4531-A519-85AB098C4CF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